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E336-E6E8-4272-BCBC-E10AEA296B3E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4760"/>
            <a:ext cx="490248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2FBC-9401-466E-B81A-DFB13FFBF1A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94DE-F2A2-46BA-9231-68F3AD95F9E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56FB-4C72-4EA4-B55C-37331FF53499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56240"/>
            <a:ext cx="53294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7603-B391-45C7-9C70-0DD5604DF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52AC-D6B2-422B-ABAA-9771ACDA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2DF2-A829-4B33-9AF6-CDCB5024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2319-6991-4B87-B9C6-E08D48D57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FD87-1AD8-4CD4-95D1-288A7FD3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E6E4-D482-476D-9FD7-0E6251DD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2CF3-3418-4542-B7A7-46C02EBB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3634-1F22-4BC3-9651-0E8508B4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C311-7D98-4C6C-87E4-E9782A61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6A00-EFE8-4859-B2EA-D663CF1A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EFCA-0B4F-4BD7-8DF0-480C2C89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D21E-A236-4331-9CD8-DA369DEF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9411-1264-497C-9FA9-DA4B7A7BE90C}" type="datetime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553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C417-8C90-4EB8-8996-0CE2F8D925AA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3365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Extracted from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AI  Amateur-built and Experimental Aircraft Commission  -  CIACA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00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31st Plenary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ris ,  Aero Club de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rch 31st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189000"/>
          <a:ext cx="8926560" cy="59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2656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A493-6025-4344-83D9-EF25D11B88D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802F87-1A3B-47AC-8B53-7D9FB7293C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4162680" cy="21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2567160"/>
            <a:ext cx="2541600" cy="17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7921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AI Gold Air Medal to Jon JOHANSON (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hree times round the world (1995,1996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both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09240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www.vansaircraft.com/public/jj-pers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0996-2EED-4032-B857-28352AFAA062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2AE3F6-34A9-4021-8FD8-17EFE685EC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669000"/>
            <a:ext cx="7561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75640" y="6669000"/>
            <a:ext cx="217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7017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596880" cy="64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« The High Flyers Nigh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936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ris, Palais du Luxembourg, 14 October 2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6400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78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3_High Flyers_m" descr=""/>
          <p:cNvPicPr/>
          <p:nvPr/>
        </p:nvPicPr>
        <p:blipFill>
          <a:blip r:embed="rId2"/>
          <a:stretch/>
        </p:blipFill>
        <p:spPr>
          <a:xfrm>
            <a:off x="2195640" y="884160"/>
            <a:ext cx="5184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0920" y="4581360"/>
            <a:ext cx="2128680" cy="1634400"/>
            <a:chOff x="250920" y="4581360"/>
            <a:chExt cx="2128680" cy="1634400"/>
          </a:xfrm>
        </p:grpSpPr>
        <p:pic>
          <p:nvPicPr>
            <p:cNvPr id="69" name="42_High Flyers_m" descr=""/>
            <p:cNvPicPr/>
            <p:nvPr/>
          </p:nvPicPr>
          <p:blipFill>
            <a:blip r:embed="rId3"/>
            <a:stretch/>
          </p:blipFill>
          <p:spPr>
            <a:xfrm>
              <a:off x="32220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50920" y="58784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Buzz Aldrin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98920" y="4437000"/>
            <a:ext cx="1944720" cy="2210400"/>
            <a:chOff x="3598920" y="4437000"/>
            <a:chExt cx="1944720" cy="2210400"/>
          </a:xfrm>
        </p:grpSpPr>
        <p:pic>
          <p:nvPicPr>
            <p:cNvPr id="72" name="40_Centenary Medal_m" descr=""/>
            <p:cNvPicPr/>
            <p:nvPr/>
          </p:nvPicPr>
          <p:blipFill>
            <a:blip r:embed="rId4"/>
            <a:stretch/>
          </p:blipFill>
          <p:spPr>
            <a:xfrm>
              <a:off x="3888000" y="4437000"/>
              <a:ext cx="13143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98920" y="631008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FAI Centenary Medal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43640" y="4581360"/>
            <a:ext cx="2449440" cy="1634400"/>
            <a:chOff x="6443640" y="4581360"/>
            <a:chExt cx="2449440" cy="1634400"/>
          </a:xfrm>
        </p:grpSpPr>
        <p:pic>
          <p:nvPicPr>
            <p:cNvPr id="75" name="41_High Flyers_m" descr=""/>
            <p:cNvPicPr/>
            <p:nvPr/>
          </p:nvPicPr>
          <p:blipFill>
            <a:blip r:embed="rId5"/>
            <a:stretch/>
          </p:blipFill>
          <p:spPr>
            <a:xfrm>
              <a:off x="673272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43640" y="587844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Steve Fossett &amp; Bertrand Piccard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8000" y="64674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609480"/>
          <a:ext cx="7772400" cy="5505480"/>
        </p:xfrm>
        <a:graphic>
          <a:graphicData uri="http://schemas.openxmlformats.org/drawingml/2006/table">
            <a:tbl>
              <a:tblPr/>
              <a:tblGrid>
                <a:gridCol w="1492200"/>
                <a:gridCol w="1841400"/>
                <a:gridCol w="3586320"/>
                <a:gridCol w="85248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iscip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erforma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éro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ertrand Picc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r>
                        <a:rPr b="0" lang="fr-FR" sz="900" spc="-1" strike="noStrike" baseline="30000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r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Tour du monde en ballon+ records altitude et durée en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erostation (gaz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F &amp; V L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inqueurs de4 coupes Gordon Benn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stronom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doin Dollf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viation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teve Foss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our du monde en ballon  et en avion en solo et sans e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lery Poliak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spatial prolongé 437 jours 18 he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uzz Aldr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er équipage sur la lu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irav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an Bou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cord du monde d'altitude en hél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ral Valérie And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breuses missions de sauve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eryl Stear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ultiples records du monde en chute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J Wor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éateur du saut en "free style" et "canopy piloting", organisateur des + grands evenements de parachutisme.  Cascades de James B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à Vo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Klaus Ohlma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, dont celui 3000 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anfred Ruhm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ampion du Monde en 1999 et d’Europe en 1998. + CdM Speedgliding 2003 + reco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en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rzy Maku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6 X champion du monde et 2 X d'Europe en voltige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atherine Mauno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2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vetlana Kapa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5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ke Blyth + Olivier Au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 et voyages en pendu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A + 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uc Trullem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outeur des courses en bal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835280" y="8366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4270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9960" y="253512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25800" y="30114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50706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25360"/>
            <a:ext cx="77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3ACA-7BF2-4674-A3F4-82B4D7E084B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A6B8BA-EDE5-47F2-8373-4500CB7F2C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6560" y="40356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Lausanne 27/28.August. The EAS was present there to inform about the amateur built section of aviation, the public interest was very high and a lot of interest was generated, we had inside an aircraft under construction (Kitfox) and a Bruegger Colibri, outside in the static display was a Slepcev Storck, a Cherry and a RV-6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58880" y="2276640"/>
            <a:ext cx="5826240" cy="37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1FA9-23E6-4E56-B41B-96DC3373BFB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7A9B0D-D9DE-4A0D-920C-32F156EF05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imes New Roman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FAI thanks the Aero Club de France for helping us to celebrate the Centenary in style, and for hosting the CIACA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50EF-B8AF-4156-B7B7-C0EB6121A0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C7D1C7-6E4C-4FEF-9534-E6A694576B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ew economic racing class p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oject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part of the Bleu Citron progr.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Presented by Mr. Frédéric Hubschwerle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4237200" cy="25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4920" y="1197000"/>
            <a:ext cx="4238640" cy="256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905280"/>
            <a:ext cx="4176720" cy="25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40120" y="3906720"/>
            <a:ext cx="417672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D34C-F51D-4A75-BBF5-204880D07E8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82DE45-258F-493D-B41B-A2999E9C0B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IACA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First experience with the CMS  (From Werner Schnei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we have finally access to add, edit content on the webpage, we can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add more editors by ourself,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s is a real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the first steps were promising (I was able to add some content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erry does this as a course I have not yet all information I w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like to have but thats just a matter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ill fated non working database is finally g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CMS is very powerful and does help to align content in a wa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web has a corporate design, this is a very good move. We will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how this develops and I hope the approach to have from each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each year at least one little story to present will make the CIAC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more al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ABC8-853B-4634-B58A-2AACCBDBFBB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399F08-4F8A-4F99-8DD4-5E654292E6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15:20Z</dcterms:created>
  <dc:creator>UAA15B0</dc:creator>
  <dc:description/>
  <dc:language>en-US</dc:language>
  <cp:lastModifiedBy> </cp:lastModifiedBy>
  <dcterms:modified xsi:type="dcterms:W3CDTF">2006-08-22T13:59:23Z</dcterms:modified>
  <cp:revision>100</cp:revision>
  <dc:subject/>
  <dc:title>Presentazione di PowerPoint</dc:title>
</cp:coreProperties>
</file>